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6D4-F4EB-43D9-8A54-5FDB0E09EB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F90-5AEB-432B-81E4-132DE07D4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stant Reform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1B5-131A-488E-B83D-BE71291AF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was all-powerful and all-good &amp; knew who was going to Hea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903-2065-419D-99D5-C77D213F4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FA83-EA17-4E01-9A9B-35F5A751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550-CD46-4B95-A450-8D57BB6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E64-6971-4462-811C-99BF19D2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92717-5041-4E93-B362-CF30EC9C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2B801-CF77-40AD-8CC5-597E95B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B2D2D-6005-45E3-8D98-736A7E1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E431E-B67E-40E2-94A3-0A29F15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9E5E-AF42-4B62-89B9-91203CB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7047-A525-4CD0-812A-8FF810A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5F869-E052-4B26-92D1-BA9071B5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0AD95-E44B-4A27-BF00-07A039C8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10A2-1DAB-4BAE-89B5-554A418B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ED7EB-6DE5-49F0-B17F-2902BF09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42A-BF54-40FB-89C6-1B58C152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0F96C-D694-4006-9238-9C40CBCD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5316A-07BC-4BEF-BBB3-82D75B59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8D56A-4985-4EA4-8A4F-0F82372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6781A-7B8C-42B4-A345-174BF1D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F2F1-53AD-47D9-8337-3712984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77F3D-7C8C-4F42-842C-6B9A30C9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BA503-BA27-492E-B558-24977C5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8A5B1-8361-4E3F-8F5E-D1FA921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83521-017F-44CE-9ACB-91E0757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4EFCD-0087-4402-9BE1-908528B8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9CB-1395-4F7D-AF72-8A8BFAD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46B02-99E3-4A70-B8EF-8DD51777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EE27-D6B1-47F5-8090-69942318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E7E3-1B41-40C1-90A3-E16DDD9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B0AD-742A-4143-A687-E92D9C5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443B3-EF40-43E0-9FF3-52F6AF76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A3C9C-EE0C-4A5D-951E-205DAA1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14D04-BCB9-48CC-9F9F-4CF4C901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B6880-7557-4A02-A40E-677D347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06721-0ADA-48E7-A4E7-D4C19D9A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81FC-AB83-4A5B-85B6-91029B8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4EE0-A188-47AF-BFA8-008CA7DE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FB02-62FB-44DE-BD61-7E35056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FD883-2FA7-4417-81BA-4A795FF1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1A40-3C84-498B-BCD4-3B1A0932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278DD-89A1-406B-82EB-10A47FFF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AC532-ACF6-40E0-BCDA-494D1980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B358-1982-4D58-87EA-3C3FABD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A013D-4D60-4D57-89C7-A043EFE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3F8F0-87F9-48C6-9C2A-34E9E43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5846-37DA-4169-BDBD-78764D3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7D075-A57D-469A-B178-21BAF44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C49-0B5B-474A-892E-426AA7C3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6528-F8C5-4A22-941D-1C2D2A58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3E1FE-C6DD-4DED-847D-084F8128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CE541-1361-4597-A3AF-99439C67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25BB9-70ED-4203-AE5A-B05B95CC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5F6F3-28A8-42B8-89B4-DA994656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6738-4CC7-41B9-B0CE-223100B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4A0B-492E-4BC0-97C0-DC5578EA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2420-3536-4F93-A327-5CC05D3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8086-A2D3-487A-AAED-B0E04546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24D-1D19-4CE4-937D-1746473C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BAE-5F81-4139-B396-34DA7F53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F29-0B5A-4281-8C05-5995A1D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1E1-1FAB-43FA-BFA9-E2F8C33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9FE8-D3B1-4866-8B73-31C31E57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6484-46FA-43FE-9154-2FBCB422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0BA-2838-4D30-87B9-13C62C8E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221E-872F-4011-B5D8-16D7B978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4774-8E73-4F52-A02C-0E1710FC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079F-3D0F-47B8-ACF2-743EAD8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DF0A-8564-43F3-9B78-2239205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27CB-226A-448E-B1F8-800AD83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70D-9F45-4559-B472-050D4AD5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3D6C-A5A5-41D9-B8DF-8405C176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E92A-36CD-4E54-81A6-20AF777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B76E-95C6-4812-8CFA-97F474BB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4464-99FB-48D0-AF3C-EBA77EA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C166-9F04-4D68-BF05-96DA6B39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CEEB-C18A-471A-A895-9C9E8FD3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8C9F-762E-4CFB-A7C4-60A2AD38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FDF7-C01D-43D0-BC94-0910591E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EBDD-F1B8-4266-92BF-9CFF14E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B555-F136-4ADB-A06C-CDF88F99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84D-013B-4179-9CA9-6AF0DCA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885B-EE6D-46B3-84F9-993B923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E1A3-B75C-41F8-9E77-43C880D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1E9E-ED60-4ADD-BBD3-4F5F668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D936-8280-4588-B518-9BDCB0B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9860-85FD-4D82-858D-6A86C2A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F88F0-787D-4A3F-AF83-9AE5FAB5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AD08-4AEE-4A66-95BD-BF71928F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D14E-D779-4BBE-A2C2-D45FD25B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BE33-1AEE-4838-9D75-C9D994B7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32E9-EB84-4B78-8FD0-651D2C2E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4709-8CE4-4223-92EB-F43B18A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8F5B-2ECB-4AE1-B484-7F4AD36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2EA6D-D3DA-4AFB-A917-23E0A73E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C49E-2C8D-440B-84AF-AD577A70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B6297-242E-4A9F-A7D6-76AA676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9ED2-938D-41D5-BD98-332E630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3CD5C-7430-4095-B107-A83D7ED9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90B9-9F53-4BA7-8067-6C7E980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B89D-5AB2-4258-8CF0-091E99D1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D4CC-551C-4356-9535-39EC61C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89ED-6E75-4FD2-829A-1FE91774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29F-55F2-4003-9956-6D3B9284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F972-8BE9-4742-A9A2-C638F7BE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F788-24F6-4B06-A9FD-B2EB5964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6CEC-3AC4-4BB4-B578-2A77043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3985-9750-4889-910B-B517769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B581-899B-4CAB-9512-78FF8E20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56B3-388C-4114-94A9-BB3322B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B5EE-CB22-4976-8743-6B703295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0729E-F9F0-4D8D-B8D3-BD270C65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FFCE-C4BC-472D-9AB0-155DBA8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0176-1761-439F-B1DF-6F6F602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884-1246-4B57-8E19-1E53014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2D60-0383-4A7A-9E8B-61A4EBD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F8DF-DA25-4E37-9EAE-0BE0FBFD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7AEAF-1419-439C-8D2C-90592B4D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7ED3-13D3-4393-9F51-35ECC0E0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A3EB4-BBA3-49AF-ACCF-1B57F86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2773-9BFF-4904-937A-D7F2EB1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D803C-7DF7-4FD0-AE3F-9741698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0B9F-4C67-4500-B7F8-572E629E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CC9EB-6CFB-4070-A549-89395CC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F091-9BE4-4696-B3AC-D145125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802-DAC5-48E7-9991-670D3FE4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1B1C-E1C6-47C2-9AE0-D404673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E307-DA2A-40E8-B0C7-2941F56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E857-F138-4246-9D04-7BF3D57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FB751-AFF1-4D53-89C4-0177BECE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7B67-F213-4625-8FFE-3A10DAFE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30077-DE78-4B91-8021-BB790FC1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6C36-396A-44C5-A222-2E628466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11BB-5690-4BB6-86E7-DD3FE848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1C55-7A49-4A40-BAC1-23DF15D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8DC93-B2AE-4B93-823E-FCA32D35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5FF-BA8D-4798-AE29-14A51C1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1EF27-49FE-4CB3-96CA-CAB0A78E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AC5B2-36ED-44B0-B301-F6C7BF5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1CFF-F7CE-4236-A5F9-5C4D93E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ACD05-9906-4C93-8E0C-52F4204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D8066-D530-4728-B06C-6292431B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A3693-AAA7-4B1B-9A2C-7219E0E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248D9-0E73-4E42-9A87-3AC774C3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DA3A7-17A1-45BB-97E2-5DAC280C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B0384-1F94-4C11-A1D6-CCD5556F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0C541-A3B0-4EDA-9FBB-5146A9CC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072-096E-4006-A6F3-1F38C36C8E5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F77-DF75-46AF-9565-B401BFC85E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71A-8B52-404C-875F-06E306F0800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7C72-5601-4C73-924C-A99065583D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4EB-DA79-4424-B456-BA22CC54918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D2E-580F-42B9-B0B0-DE25DFF028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E05B-9985-49DA-ADF4-14CC40525C5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A0A2-594A-4A12-BE7B-CAEB300A01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9301-86C8-4837-B68C-F02EB9BBE0D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55A-CC8F-4ADA-9BF8-43E05068FF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426-DEBF-44FF-AA9B-A032F9E3BDB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EBB-81CC-4651-8F06-F6B17ADD312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EEC-743F-4DA0-8BD6-05A99E39167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DD3D-C802-4E17-A5E9-00012E7697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C378-796F-4B0C-A6E1-091ECD93403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F60-88E0-4967-B349-6C29DAF9B5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9C19-4A6B-42A9-B028-91EF613D0F1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D7C-B2AE-401E-9A4C-5473CB9CFE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EBB4-CB58-4195-91EA-46B6B6F1F5B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6DAB-96AB-4524-BFC2-8FD4DC8103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B56E-82D3-4CCC-BD24-F656FF5FB14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281-9EAB-4297-89CA-F2AAD883F5F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F7D2-5398-49A8-A4D7-8C6EFDA7506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A9AB-D1C7-4775-AB01-B830EEE2FE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Title 4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619-17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Title 4" descr=""/>
          <p:cNvPicPr/>
          <p:nvPr/>
        </p:nvPicPr>
        <p:blipFill>
          <a:blip r:embed="rId2"/>
          <a:stretch/>
        </p:blipFill>
        <p:spPr>
          <a:xfrm>
            <a:off x="450720" y="682560"/>
            <a:ext cx="8315280" cy="1170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squanto.jpg"/>
          <p:cNvPicPr/>
          <p:nvPr/>
        </p:nvPicPr>
        <p:blipFill>
          <a:blip r:embed="rId3"/>
          <a:stretch/>
        </p:blipFill>
        <p:spPr>
          <a:xfrm>
            <a:off x="914400" y="2286000"/>
            <a:ext cx="2381400" cy="2943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nativehouse.jpg"/>
          <p:cNvPicPr/>
          <p:nvPr/>
        </p:nvPicPr>
        <p:blipFill>
          <a:blip r:embed="rId4"/>
          <a:stretch/>
        </p:blipFill>
        <p:spPr>
          <a:xfrm>
            <a:off x="3565440" y="2133720"/>
            <a:ext cx="5578560" cy="430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suctio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Bible Commonw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on-Separatists Puritans- sought to reform Church of England from with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ed by Govern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John Winthrop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Puritans set up Massachusetts Bay Colony as a “city upon a hill”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venant with God to build a holy society as a model for humankind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map_world_zone.png"/>
          <p:cNvPicPr/>
          <p:nvPr/>
        </p:nvPicPr>
        <p:blipFill>
          <a:blip r:embed="rId2"/>
          <a:stretch/>
        </p:blipFill>
        <p:spPr>
          <a:xfrm>
            <a:off x="3429000" y="1219320"/>
            <a:ext cx="5257800" cy="3581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 flipH="1" flipV="1" rot="10800000">
            <a:off x="4266000" y="549864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rly Colonial Map circa 1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225px-Virginia_dare_stamp.jpg"/>
          <p:cNvPicPr/>
          <p:nvPr/>
        </p:nvPicPr>
        <p:blipFill>
          <a:blip r:embed="rId3"/>
          <a:stretch/>
        </p:blipFill>
        <p:spPr>
          <a:xfrm>
            <a:off x="304920" y="91440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45720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rginia  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Building the Bay Colon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ove for religious and social harmon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rpose of government to enforce God’s l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oc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ligious leaders wielded powerful political influence over governme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42" name="Picture 4" descr="theocracy.gif"/>
          <p:cNvPicPr/>
          <p:nvPr/>
        </p:nvPicPr>
        <p:blipFill>
          <a:blip r:embed="rId2"/>
          <a:stretch/>
        </p:blipFill>
        <p:spPr>
          <a:xfrm>
            <a:off x="3581280" y="1600200"/>
            <a:ext cx="5158080" cy="464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e Commonweal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ttlers to Massachusetts Bay had sought to purify, or separate from the Church of Engl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leaders in Massachusetts Bay wanted little dissention from religious orthodox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Religious Dissenter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Anne Hutchin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Roger Willi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lieve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ntinomianism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truly saved need not bother to obey laws of man or Go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iled first to Portsmouth and later to New Yor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ached separation of church and sta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pensation to Indians for la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ed first Baptist church in New Wor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unded Rhode Isla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igious freed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Anne Hutchins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2828880"/>
            <a:ext cx="2210040" cy="26575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first feminist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2" name="Picture Placeholder 4" descr="anne21.gif"/>
          <p:cNvPicPr/>
          <p:nvPr/>
        </p:nvPicPr>
        <p:blipFill>
          <a:blip r:embed="rId2"/>
          <a:srcRect l="0" t="23307" r="0" b="23307"/>
          <a:stretch/>
        </p:blipFill>
        <p:spPr>
          <a:xfrm rot="454800">
            <a:off x="3516120" y="1125360"/>
            <a:ext cx="46162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oger Willi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54" name="Content Placeholder 6" descr="rwilliams.jpg"/>
          <p:cNvPicPr/>
          <p:nvPr/>
        </p:nvPicPr>
        <p:blipFill>
          <a:blip r:embed="rId2"/>
          <a:stretch/>
        </p:blipFill>
        <p:spPr>
          <a:xfrm>
            <a:off x="2438280" y="2133720"/>
            <a:ext cx="4419720" cy="32004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8"/>
          <p:cNvSpPr/>
          <p:nvPr/>
        </p:nvSpPr>
        <p:spPr>
          <a:xfrm>
            <a:off x="3352680" y="5562720"/>
            <a:ext cx="27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ing of Rhode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04617b"/>
                </a:solidFill>
                <a:latin typeface="Calibri"/>
              </a:rPr>
              <a:t>New England Spreads Out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erend Thomas Hooker led an energetic group of Puritans to Connectic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undamental Orders of Connectic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dern constit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ed regime democratically controlled by substantial citize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written constitution in colon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8" name="Picture 3" descr="hooker.jpg"/>
          <p:cNvPicPr/>
          <p:nvPr/>
        </p:nvPicPr>
        <p:blipFill>
          <a:blip r:embed="rId2"/>
          <a:stretch/>
        </p:blipFill>
        <p:spPr>
          <a:xfrm>
            <a:off x="2057400" y="5153040"/>
            <a:ext cx="5079960" cy="170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ine and New Hampsh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855440"/>
            <a:ext cx="4040280" cy="172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r Ferdinando Gorges founded Maine for trading. Maine became part of Massachusetts until 1820 Missouri Compromi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45440" y="1829160"/>
            <a:ext cx="404172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New Hampshire was founded by John Mason for trading and fishing reas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2" name="Content Placeholder 10" descr="4316.jpg"/>
          <p:cNvPicPr/>
          <p:nvPr/>
        </p:nvPicPr>
        <p:blipFill>
          <a:blip r:embed="rId2"/>
          <a:stretch/>
        </p:blipFill>
        <p:spPr>
          <a:xfrm>
            <a:off x="609480" y="3733920"/>
            <a:ext cx="3349800" cy="2627280"/>
          </a:xfrm>
          <a:prstGeom prst="rect">
            <a:avLst/>
          </a:prstGeom>
          <a:ln w="0">
            <a:noFill/>
          </a:ln>
        </p:spPr>
      </p:pic>
      <p:pic>
        <p:nvPicPr>
          <p:cNvPr id="663" name="Content Placeholder 11" descr="23063453.jpg"/>
          <p:cNvPicPr/>
          <p:nvPr/>
        </p:nvPicPr>
        <p:blipFill>
          <a:blip r:embed="rId3"/>
          <a:stretch/>
        </p:blipFill>
        <p:spPr>
          <a:xfrm>
            <a:off x="4800600" y="335268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stant Re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&amp;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95 The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itique of Indulg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ble alone was word of Go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are saved by faith al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arks mainland European Protestant Re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Content Placeholder 6" descr="Martin_Luther_Nailing_Theses_1.jpg"/>
          <p:cNvPicPr/>
          <p:nvPr/>
        </p:nvPicPr>
        <p:blipFill>
          <a:blip r:embed="rId2"/>
          <a:stretch/>
        </p:blipFill>
        <p:spPr>
          <a:xfrm>
            <a:off x="4927680" y="1920960"/>
            <a:ext cx="3479760" cy="44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arly Colonial Native American Wa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675 King Philip’s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acom led a last effort to stop colonial settle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nce burned to the ground and a massacre occurr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were the results of King Philip’s Wa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6" name="Picture 6" descr="Attack-final-rev-2.jpg"/>
          <p:cNvPicPr/>
          <p:nvPr/>
        </p:nvPicPr>
        <p:blipFill>
          <a:blip r:embed="rId2"/>
          <a:stretch/>
        </p:blipFill>
        <p:spPr>
          <a:xfrm>
            <a:off x="2666880" y="4267080"/>
            <a:ext cx="4364280" cy="1905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Seeds of Colonial Unity and Independenc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ew England Confederation form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e for protection against the Indians, French and Dut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ymouth, Massachusetts Bay, Hartford &amp; New Hav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tradition of colonies not asking the English crown for permission to a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0" name="Picture 11" descr="500px-NewEnglandConfederation.png"/>
          <p:cNvPicPr/>
          <p:nvPr/>
        </p:nvPicPr>
        <p:blipFill>
          <a:blip r:embed="rId2"/>
          <a:stretch/>
        </p:blipFill>
        <p:spPr>
          <a:xfrm>
            <a:off x="5029200" y="373392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Calibri"/>
              </a:rPr>
              <a:t>The Navigation Acts and Mercantilism </a:t>
            </a:r>
            <a:br>
              <a:rPr sz="4100"/>
            </a:b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0" y="159984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avigation A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ain goods shipped from a New World port were to go only to Britain or to another New World colonial po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s from the colonies were to be provided only to Engl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0" y="167616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Mercanti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Economic theory that benefits the mother country at the expense of the colon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New Nether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1609 Henry Hudson ventured into Delaware and New York Bay &amp; claimed the area for the Netherl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6" name="Content Placeholder 4" descr="LP3756_HenryHudson_large.jpg"/>
          <p:cNvPicPr/>
          <p:nvPr/>
        </p:nvPicPr>
        <p:blipFill>
          <a:blip r:embed="rId2"/>
          <a:stretch/>
        </p:blipFill>
        <p:spPr>
          <a:xfrm>
            <a:off x="2514600" y="3276720"/>
            <a:ext cx="4819680" cy="281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Netherla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1664 Charles II granted modern day New York to his brother the Duke of York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itish troops landed and quickly eliminated the Dutch from the are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9" name="Content Placeholder 4" descr="ridgewood_colonial_heritage_no_box_P0000015344S0013T2.jpg"/>
          <p:cNvPicPr/>
          <p:nvPr/>
        </p:nvPicPr>
        <p:blipFill>
          <a:blip r:embed="rId2"/>
          <a:stretch/>
        </p:blipFill>
        <p:spPr>
          <a:xfrm>
            <a:off x="4648320" y="2114640"/>
            <a:ext cx="4038480" cy="4046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ennsylvania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Holy Experimen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ed by William Penn as a haven for Quakers in 168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usand of squatters already lived in Pennsylvan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iladelphia- one of the first “planned” cities &amp; unofficial “capital” of colon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olitioni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2" name="Content Placeholder 4" descr="QuakersPennsylvanie.jpg"/>
          <p:cNvPicPr/>
          <p:nvPr/>
        </p:nvPicPr>
        <p:blipFill>
          <a:blip r:embed="rId2"/>
          <a:stretch/>
        </p:blipFill>
        <p:spPr>
          <a:xfrm>
            <a:off x="5070600" y="2151000"/>
            <a:ext cx="3193920" cy="397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Southern Colonie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 Carolina, North Carolina, Virginia, Maryland, Georg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tation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laves and slave co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major seap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ted near Spanish Florida and French Louisian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5" name="Content Placeholder 4" descr="Southern-Colonies-1776.jpg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4695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New England Colon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ssachusetts Bay, Connecticut, Rhode Island, New Hampshi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arious relig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verse economical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ld Mines of New England (the se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disposed to early public edu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8" name="Content Placeholder 4" descr="ColonialHomesOnBenefitStreet.jpg"/>
          <p:cNvPicPr/>
          <p:nvPr/>
        </p:nvPicPr>
        <p:blipFill>
          <a:blip r:embed="rId2"/>
          <a:stretch/>
        </p:blipFill>
        <p:spPr>
          <a:xfrm>
            <a:off x="4648320" y="1523880"/>
            <a:ext cx="4038480" cy="4116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stics of the Middle Colon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York, New Jersey, Delaware &amp; Pennsylv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tile soil / Bread Colon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thically diverse popul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able economic and social democ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1" name="Content Placeholder 4" descr="benjamin-franklin.jpg"/>
          <p:cNvPicPr/>
          <p:nvPr/>
        </p:nvPicPr>
        <p:blipFill>
          <a:blip r:embed="rId2"/>
          <a:stretch/>
        </p:blipFill>
        <p:spPr>
          <a:xfrm>
            <a:off x="4648320" y="2200320"/>
            <a:ext cx="4038480" cy="387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P P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alyze The Mayflower Compact using AP PARTS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uthor 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Who created the source? What is their point of view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lace and Tim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Where and when was the source produced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rior Knowledg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at do you already know that would further your understanding of this sources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udienc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For whom was the source created? Does this affect the reliability of the source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Reason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y was this source produced at the time is was produced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e Main Ide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at is the source trying to convey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Significanc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 - Why is this source important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  <p:sndAc>
      <p:stSnd>
        <p:snd r:embed="rId2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ohn Calvin and predest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36 Institutes of the Christian Relig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predestined go to heav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d works could not save those whom predestination had marked for h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Content Placeholder 4" descr="John_Calvin_2_in_Library_1-708209.jpg"/>
          <p:cNvPicPr/>
          <p:nvPr/>
        </p:nvPicPr>
        <p:blipFill>
          <a:blip r:embed="rId2"/>
          <a:stretch/>
        </p:blipFill>
        <p:spPr>
          <a:xfrm>
            <a:off x="5056200" y="1920960"/>
            <a:ext cx="3222720" cy="4479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stant Work Eth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11" name="Content Placeholder 3" descr="P work ethic.jpg"/>
          <p:cNvPicPr/>
          <p:nvPr/>
        </p:nvPicPr>
        <p:blipFill>
          <a:blip r:embed="rId2"/>
          <a:stretch/>
        </p:blipFill>
        <p:spPr>
          <a:xfrm>
            <a:off x="4648320" y="1905120"/>
            <a:ext cx="3873240" cy="3962160"/>
          </a:xfrm>
          <a:prstGeom prst="rect">
            <a:avLst/>
          </a:prstGeom>
          <a:ln w="0">
            <a:noFill/>
          </a:ln>
        </p:spPr>
      </p:pic>
      <p:sp>
        <p:nvSpPr>
          <p:cNvPr id="612" name="TextBox 5"/>
          <p:cNvSpPr/>
          <p:nvPr/>
        </p:nvSpPr>
        <p:spPr>
          <a:xfrm flipH="1">
            <a:off x="1065960" y="2438280"/>
            <a:ext cx="304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lvinists known for work ethic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Arial"/>
              </a:rPr>
              <a:t>dusk to dawn to prove their worth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ngland’s Purita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me English Puritans wanted to further purify King Henry VIII’s Anglican Churc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paratist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vowed to break away entirely from the Church of Englan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5" name="Content Placeholder 4" descr="puritans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2798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Pilgrims (Separatists) arrive in Plymout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fter 65 days at sea, the Pilgrims arrived in Plymout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ess than half Pilgrims on Mayflower were Separatis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hy would others travel as well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8" name="Content Placeholder 4" descr="the_mayflower.jpg"/>
          <p:cNvPicPr/>
          <p:nvPr/>
        </p:nvPicPr>
        <p:blipFill>
          <a:blip r:embed="rId2"/>
          <a:stretch/>
        </p:blipFill>
        <p:spPr>
          <a:xfrm>
            <a:off x="4648320" y="18288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lgrim lea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157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617b"/>
                </a:solidFill>
                <a:uFillTx/>
                <a:latin typeface="Constantia"/>
              </a:rPr>
              <a:t>Myles Standish 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- great military leader &amp; Indian negotia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44720" y="1860480"/>
            <a:ext cx="4041720" cy="18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Governor </a:t>
            </a:r>
            <a:r>
              <a:rPr b="1" lang="en-US" sz="2400" spc="-1" strike="noStrike" u="sng">
                <a:solidFill>
                  <a:srgbClr val="04617b"/>
                </a:solidFill>
                <a:uFillTx/>
                <a:latin typeface="Constantia"/>
              </a:rPr>
              <a:t>William Bradf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Elected governor of Plymouth 30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Helped develop fur, fish &amp; lumber tr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2" name="Content Placeholder 7" descr="standish.jpg"/>
          <p:cNvPicPr/>
          <p:nvPr/>
        </p:nvPicPr>
        <p:blipFill>
          <a:blip r:embed="rId2"/>
          <a:stretch/>
        </p:blipFill>
        <p:spPr>
          <a:xfrm>
            <a:off x="685800" y="3657600"/>
            <a:ext cx="3379680" cy="2649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3"/>
          <a:stretch/>
        </p:blipFill>
        <p:spPr>
          <a:xfrm>
            <a:off x="5638680" y="3886200"/>
            <a:ext cx="1806840" cy="29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yflower Compa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reement to form a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mit to will of the major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mising step towards self-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6" name="Picture 8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461016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1176120"/>
            <a:ext cx="2590920" cy="80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The First Thanksgivin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743200" cy="3581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3000"/>
          </a:bodyPr>
          <a:p>
            <a:pPr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rrible winter of 16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y half colony survi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621 brought bountiful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spcBef>
                <a:spcPts val="2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ed English could survive in uninviting reg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9" name="Picture Placeholder 4" descr="first_thanksgiving.jpg"/>
          <p:cNvPicPr/>
          <p:nvPr/>
        </p:nvPicPr>
        <p:blipFill>
          <a:blip r:embed="rId2"/>
          <a:srcRect l="6791" t="0" r="6791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wheel spokes="8"/>
    <p:sndAc>
      <p:stSnd>
        <p:snd r:embed="rId3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21:08:54Z</dcterms:created>
  <dc:creator>brissettematthew</dc:creator>
  <dc:description/>
  <dc:language>en-US</dc:language>
  <cp:lastModifiedBy>emily.johnson</cp:lastModifiedBy>
  <dcterms:modified xsi:type="dcterms:W3CDTF">2012-09-11T12:44:02Z</dcterms:modified>
  <cp:revision>52</cp:revision>
  <dc:subject/>
  <dc:title>Settling the Northern Colonies  1619-1700</dc:title>
</cp:coreProperties>
</file>